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B23-20A4-4261-820D-E6164D63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CEF-61E8-4D8B-9CC5-8A0C164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1B6-E70E-486E-8BD1-E77B64EF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7FB-3030-4607-9B2E-A7A137A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8D3-A56C-4EE6-BF80-E1301FD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B2E-D134-4838-BB0E-D567A27F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5F4-2383-4149-A50C-712BFDA4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861-3EC1-42AC-A12F-30F95E8C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10E-BBE6-4A53-96A4-564DDB1E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72E-188D-4648-9C97-0C9B471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065-C091-4E89-A952-C2A30BD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4CF-4F9C-450E-A470-BCF4204F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93C9-7A9F-4808-8778-33F865ACAF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 rot="16200000">
            <a:off x="2279160" y="1424160"/>
            <a:ext cx="1368720" cy="335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Waar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635280" y="3141720"/>
            <a:ext cx="1728720" cy="335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Begrij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 rot="5400000">
            <a:off x="2135160" y="4521240"/>
            <a:ext cx="1511280" cy="335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73"/>
                </a:solidFill>
                <a:latin typeface="Calibri"/>
              </a:rPr>
              <a:t>Pla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11280" y="2349360"/>
            <a:ext cx="1368360" cy="335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Realis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4425840" y="3716280"/>
            <a:ext cx="144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372360" y="2276640"/>
            <a:ext cx="2663640" cy="220428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Calibri"/>
              </a:rPr>
              <a:t>3. HGA en HGD in ondersteuningsteam met leraar/mentor, leerling, IB/ZC, ouders, trajectbegeleider en eventueel andere externe deskund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5580000" y="4724280"/>
            <a:ext cx="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3203640" y="1152360"/>
            <a:ext cx="216036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8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Groeps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overzicht bijstellen e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vorig groepsplan evaluer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2a. Doelen komende perio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2b. Signaleren leerlingen d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262673"/>
                </a:solidFill>
                <a:latin typeface="Calibri"/>
              </a:rPr>
              <a:t>extra ondersteuning nodig                                   e        hebb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3276720" y="3786120"/>
            <a:ext cx="172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  <a:ea typeface="Calibri"/>
              </a:rPr>
              <a:t>3.  Benoemen onderwijsbehoeften van leerlingen die extra ondersteuning nodig hebb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611280" y="3645000"/>
            <a:ext cx="115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  <a:ea typeface="Calibri"/>
              </a:rPr>
              <a:t>5. Opstellen     groeps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116000" y="1484280"/>
            <a:ext cx="1584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  <a:ea typeface="Calibri"/>
              </a:rPr>
              <a:t>6. Uitvoeren groeps- of klassen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73"/>
                </a:solidFill>
                <a:latin typeface="Calibri"/>
                <a:ea typeface="Calibri"/>
              </a:rPr>
              <a:t>Groeps- of klassenobservati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4"/>
          <p:cNvSpPr/>
          <p:nvPr/>
        </p:nvSpPr>
        <p:spPr>
          <a:xfrm>
            <a:off x="1979640" y="2347920"/>
            <a:ext cx="1584360" cy="1441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5"/>
          <p:cNvSpPr/>
          <p:nvPr/>
        </p:nvSpPr>
        <p:spPr>
          <a:xfrm>
            <a:off x="395280" y="836640"/>
            <a:ext cx="5040360" cy="4753080"/>
          </a:xfrm>
          <a:prstGeom prst="ellipse">
            <a:avLst/>
          </a:prstGeom>
          <a:noFill/>
          <a:ln w="190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2268360" y="328464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73"/>
                </a:solidFill>
                <a:latin typeface="Calibri"/>
                <a:ea typeface="Calibri"/>
              </a:rPr>
              <a:t>Leerl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 rot="5400000">
            <a:off x="1972080" y="27136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73"/>
                </a:solidFill>
                <a:latin typeface="Calibri"/>
                <a:ea typeface="Calibri"/>
              </a:rPr>
              <a:t>Ou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 rot="16380000">
            <a:off x="2859840" y="2814840"/>
            <a:ext cx="83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73"/>
                </a:solidFill>
                <a:latin typeface="Calibri"/>
                <a:ea typeface="Calibri"/>
              </a:rPr>
              <a:t>lera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"/>
          <p:cNvSpPr/>
          <p:nvPr/>
        </p:nvSpPr>
        <p:spPr>
          <a:xfrm>
            <a:off x="2411280" y="2635200"/>
            <a:ext cx="648000" cy="649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1292400" y="3973680"/>
            <a:ext cx="13348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262673"/>
                </a:solidFill>
                <a:latin typeface="Calibri"/>
              </a:rPr>
              <a:t>4. Clusteren v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262673"/>
                </a:solidFill>
                <a:latin typeface="Calibri"/>
              </a:rPr>
              <a:t>leerlingen m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262673"/>
                </a:solidFill>
                <a:latin typeface="Calibri"/>
              </a:rPr>
              <a:t>vergelijkbare      onderwijsbehoeft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885080" y="3036960"/>
            <a:ext cx="0" cy="23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198360" y="220680"/>
            <a:ext cx="509436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Calibri"/>
                <a:ea typeface="Calibri"/>
              </a:rPr>
              <a:t>1. HGW-cyclus op groeps- of klassennive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47"/>
          <p:cNvSpPr/>
          <p:nvPr/>
        </p:nvSpPr>
        <p:spPr>
          <a:xfrm>
            <a:off x="179280" y="5805360"/>
            <a:ext cx="8893440" cy="11912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Calibri"/>
                <a:ea typeface="Calibri"/>
              </a:rPr>
              <a:t>Deskundigen uit onderwijs en jeugdhulp, zoals</a:t>
            </a:r>
            <a:r>
              <a:rPr b="0" lang="en-US" sz="1800" spc="-1" strike="noStrike">
                <a:solidFill>
                  <a:srgbClr val="262673"/>
                </a:solidFill>
                <a:latin typeface="Calibri"/>
                <a:ea typeface="Calibri"/>
              </a:rPr>
              <a:t> ambulant begeleiders, schoolpsychologen/orthopedagogen, schoolmaatschappelijk werkers, schoolartsen en –verpleegkundigen (JGZ), professionals uit jeugdhulp, Jeugd-GGZ, leerplicht, verslavingszorg, politie e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4"/>
          <p:cNvSpPr/>
          <p:nvPr/>
        </p:nvSpPr>
        <p:spPr>
          <a:xfrm>
            <a:off x="250920" y="1063800"/>
            <a:ext cx="495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6480000" y="260280"/>
            <a:ext cx="2382840" cy="13726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HGW op LEERLINGNIVEAU: leerlingbespreking MET LERAAR, leerling, IB/ZC EN EVENTUEEL ANDERE INTERNE DESKUNDIG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08000" y="2927520"/>
            <a:ext cx="172728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 1 t/m 5 in groeps- of klassenbespre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7596000" y="1700280"/>
            <a:ext cx="1080" cy="505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Straight Arrow Connector 9"/>
          <p:cNvCxnSpPr/>
          <p:nvPr/>
        </p:nvCxnSpPr>
        <p:spPr>
          <a:xfrm>
            <a:off x="5003280" y="1267920"/>
            <a:ext cx="1008720" cy="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Straight Arrow Connector 11"/>
          <p:cNvCxnSpPr/>
          <p:nvPr/>
        </p:nvCxnSpPr>
        <p:spPr>
          <a:xfrm>
            <a:off x="5292360" y="3933360"/>
            <a:ext cx="1080360" cy="1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Up-Down Arrow Callout 8"/>
          <p:cNvSpPr/>
          <p:nvPr/>
        </p:nvSpPr>
        <p:spPr>
          <a:xfrm>
            <a:off x="6732720" y="4508640"/>
            <a:ext cx="1152360" cy="1224000"/>
          </a:xfrm>
          <a:custGeom>
            <a:avLst/>
            <a:gdLst>
              <a:gd name="textAreaLeft" fmla="*/ 0 w 1152360"/>
              <a:gd name="textAreaRight" fmla="*/ 1152360 w 1152360"/>
              <a:gd name="textAreaTop" fmla="*/ 317520 h 1224000"/>
              <a:gd name="textAreaBottom" fmla="*/ 9064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603"/>
                </a:moveTo>
                <a:lnTo>
                  <a:pt x="0" y="15997"/>
                </a:lnTo>
                <a:lnTo>
                  <a:pt x="8100" y="15997"/>
                </a:lnTo>
                <a:lnTo>
                  <a:pt x="8100" y="16515"/>
                </a:lnTo>
                <a:lnTo>
                  <a:pt x="5500" y="16515"/>
                </a:lnTo>
                <a:lnTo>
                  <a:pt x="10800" y="21600"/>
                </a:lnTo>
                <a:lnTo>
                  <a:pt x="16100" y="16515"/>
                </a:lnTo>
                <a:lnTo>
                  <a:pt x="13500" y="16515"/>
                </a:lnTo>
                <a:lnTo>
                  <a:pt x="13500" y="15997"/>
                </a:lnTo>
                <a:lnTo>
                  <a:pt x="21600" y="15997"/>
                </a:lnTo>
                <a:lnTo>
                  <a:pt x="21600" y="5603"/>
                </a:lnTo>
                <a:lnTo>
                  <a:pt x="13500" y="5603"/>
                </a:lnTo>
                <a:lnTo>
                  <a:pt x="13500" y="5085"/>
                </a:lnTo>
                <a:lnTo>
                  <a:pt x="16100" y="5085"/>
                </a:lnTo>
                <a:lnTo>
                  <a:pt x="10800" y="0"/>
                </a:lnTo>
                <a:lnTo>
                  <a:pt x="5500" y="5085"/>
                </a:lnTo>
                <a:lnTo>
                  <a:pt x="8100" y="5085"/>
                </a:lnTo>
                <a:lnTo>
                  <a:pt x="8100" y="5603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jec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ele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7:41:12Z</dcterms:created>
  <dc:creator>Jennie</dc:creator>
  <dc:description/>
  <dc:language>en-US</dc:language>
  <cp:lastModifiedBy>Noelle Pameijer</cp:lastModifiedBy>
  <dcterms:modified xsi:type="dcterms:W3CDTF">2015-05-09T16:02:25Z</dcterms:modified>
  <cp:revision>97</cp:revision>
  <dc:subject/>
  <dc:title>Dia 1</dc:title>
</cp:coreProperties>
</file>